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dt" idx="3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ftr" idx="3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 type="sldNum" idx="3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EBF9-C122-4EEC-A576-633B20A50689}" type="slidenum"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F222-7DE3-4127-B843-E6159F914D79}" type="datetime">
              <a:rPr b="1" lang="it-IT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996F-6394-47EE-955A-A674E7F1546D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E831-4A88-455B-9886-BB6B84A1BC1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0718-C383-4413-9CDB-1637212A6498}" type="datetime">
              <a:rPr b="1" lang="it-IT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6BEF-ED71-479A-A646-8B1E85840157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087560" y="871560"/>
            <a:ext cx="4624200" cy="34704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06480" y="4722480"/>
            <a:ext cx="49845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13F7-59F3-4A94-B7F7-58C72D02CEB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0821-BEDB-407A-8ED1-51ED1472BC7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9BFE-2120-4BC5-8ED2-D5EB085D379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8177-5590-4B1A-8A8A-6D58F945634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A6D3-76DE-4908-A45E-71222E04D3C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9539-3D81-4995-9D64-C1A76A6005E6}" type="datetime">
              <a:rPr b="1" lang="it-IT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9EED-13BC-4FD0-B70C-3FF88FC8DFCA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087560" y="871560"/>
            <a:ext cx="4624200" cy="34704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06480" y="4722480"/>
            <a:ext cx="49845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DBB3-922E-4122-8367-E2D06F90054A}" type="datetime">
              <a:rPr b="1" lang="it-IT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2645-D3B7-40E6-9E13-4FF879A1BA1D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530E-9BFC-4157-BCB5-FF3A73679869}" type="datetime">
              <a:rPr b="1" lang="it-IT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3F9F-3966-4124-9929-6EF5C59BD74D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7"/>
          <p:cNvSpPr/>
          <p:nvPr/>
        </p:nvSpPr>
        <p:spPr>
          <a:xfrm>
            <a:off x="3849840" y="942660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2993-5CE5-4882-A2B4-F70810C04297}" type="slidenum"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087560" y="871560"/>
            <a:ext cx="4624200" cy="34704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06480" y="4722480"/>
            <a:ext cx="49845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B29F-6599-4049-83AF-5E475CB9B00B}" type="datetime">
              <a:rPr b="1" lang="it-IT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602E-67C3-4AC7-8423-2ACCF152275F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7"/>
          <p:cNvSpPr/>
          <p:nvPr/>
        </p:nvSpPr>
        <p:spPr>
          <a:xfrm>
            <a:off x="3849840" y="942660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5BEA-3A9C-4866-BC36-F53D98622F28}" type="slidenum"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087560" y="871560"/>
            <a:ext cx="4624200" cy="34704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06480" y="4722480"/>
            <a:ext cx="49845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F0B2-BB93-4989-8EE4-EAEEE6971849}" type="datetime">
              <a:rPr b="1" lang="it-IT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51391-C40E-4309-A307-88C657A3986A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087560" y="871560"/>
            <a:ext cx="4624200" cy="34704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06480" y="4722480"/>
            <a:ext cx="49845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6059-940D-41C3-BB65-4EFA800DCA7D}" type="datetime">
              <a:rPr b="1" lang="it-IT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0BF3-4C72-4147-88CE-3B4DEE111B23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087560" y="871560"/>
            <a:ext cx="4624200" cy="34704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06480" y="4722480"/>
            <a:ext cx="49845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6638-003F-4675-903A-6FB204B5970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A24F-DC2D-4F86-AAA4-E8B2E62E111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6320-24FD-4792-BF36-E54DB49C5E8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C9A0-F960-4047-A954-8E6DB05B8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8E0C-A579-449F-A086-454B10A3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25C4DF-C5E6-4966-9751-EE22312B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2A55C4-DE12-48AA-B7BA-547E55AB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3CDA53-00E5-4EE7-A2FC-831C25CD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4BE92-FF6B-49FF-AB54-5BF58695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E4852-C451-4208-8434-9062EA93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EF2748-60DC-4859-8993-1E24CC5B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6B203A-04F3-4E7D-971E-594E6E11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EDFD71-11DB-40CB-A399-995072EF2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67AB82-E52B-4C70-9CA5-AA05F7657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2381B8-A642-47EA-AED9-2DAA30454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2DF9-4D66-4D44-AE14-EE3499AE1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0CEC08-68CE-4F08-A882-EFC279D5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4D70FA-4D03-4A80-91E0-1C187D53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22FA01-4BC0-4229-98B3-4C82BDDC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B2C1F4-0346-4495-AD5B-2C5509E5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376EB9-2B89-4AF7-A3BE-FFDDACB5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2649F7-16C2-47EE-A7D3-69B83212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9D6A41-800D-48A1-99B1-5492B057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74593B-3C59-4E3B-8266-5F7B85E4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D585C9-EE88-4175-90F0-5A1E5455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CA9F7E-2035-4DCF-BA86-B14DEE63F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16DD-0B17-40B0-8894-CA1B206CB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39633A-62ED-4BEA-872F-5D12C3101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E78489-A1D8-42E9-97A0-6DF902548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777AC6-9B5E-4646-B3D6-EEF8CC85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CBDC72-11A5-4CE0-80A1-A0A23DC3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E1DC9-F846-499D-9ADD-8EA22832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7220FA-378E-44A0-B6FB-2A0119F8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83459A-892A-4F30-815A-B36E4689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DB587-5795-43B2-9F12-6C320A51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6095AA-943E-4B10-A551-E5C33665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0500F2-91E7-442B-955D-300558BA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9019F-9CF9-4ECA-9CAE-C6532F0E0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4F18D-55A9-4CFD-9C32-3C8E7F0A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D9ABF3-DE57-41C4-B685-C0FC6BA27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0F201C-7CF5-4065-B4DC-6F6A46AD5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0E8B-CED6-4168-9F45-942B4D22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9BFA-608E-4A46-B2AA-17DA734B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540E-D4C2-4F14-87D8-169EE17E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3A4B0-74D9-48F1-9A7F-7C48B54A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F5A7-7405-4D51-B380-208A3BD6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8CBE3-A513-41F3-B369-4B59DBB7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7581-76EB-49C0-8DF3-724B069B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B2B2-5CDD-4555-B57A-8CE1CEDE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54B4-3E2D-41E2-BD97-63987DB9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CDB7-52AD-43A9-95C6-A1C9F948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24CD9-329C-4B47-AEB9-14CCBA3BE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DFCE-57B0-4182-830F-6A5039C53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A30FF-0214-4A84-8743-C982B5234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E72A0-182A-4D28-ABCF-1CBFBE36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33BBD-CC6C-4913-892C-6212A7A9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B6F1B-6C74-4966-B766-D37B6663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8F764-98E3-4D68-B90D-5C6A75CF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87D9-7047-430D-9F93-B9A0BAA2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E0C48-72C5-4536-947B-632FFA48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611B4-7777-4679-A789-18270CA5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41D11-C835-43BE-BE19-5FAD3DA4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EAF54-3A14-4576-B5FF-3CC6FD28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365EB-2489-4FA5-93EA-6A9D3D72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37035-317B-4034-A88B-2481C57B4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FAE37-0048-4BE4-BEB4-02C600D40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C2617-6E5A-4BBF-BC9C-5093420FE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3298E-A13E-4244-AC70-4759B217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F6BDB-B079-46CA-92C9-F0A7FA28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0953-A8C3-43E3-87C9-5CC5C036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C4AFB-99A7-4571-BE0E-6206FD4A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EB377-A6C1-4F28-BFE2-B75CD7E0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DEAA9-A09B-4283-8F50-A226AD28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51881-3864-4EE3-A1DD-7555EA0B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F41EA-A4E8-4EC4-8727-DD7A868A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3B133-A22E-4C7F-9761-BCD1377C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99630-DFD9-4F82-A797-57795907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208E8-4567-4838-8363-7F59B2156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1B3DA-7353-4BAD-B4EA-99A4563BE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D896E-7DE4-4201-828D-9BF47E68A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562C-1E30-4381-BBA1-3C7ABC55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BED3B-472F-418E-AADF-7092A0B5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2DF27-BCC6-428B-812C-9B782BE6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67DD7-3716-41C0-B8B6-04FB0CC8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25257-CEF9-4F69-8548-C5C21C07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75F4F-3C37-4640-90C7-5832693B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B3662-3577-4E18-B7E1-45C7D638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6F1E1-7705-4FB4-A07C-451BFE3E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1CDCE-A085-4472-95CB-CA5FCA95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E2259-1EEA-4B10-9F05-7F529F06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9534D-8818-4A55-9B40-0BCF603CF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2C8E-59BB-4AE4-91D6-20D2F886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82CDA-ACB3-44CD-85D5-9C7BE0D6E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F41E4-6E3E-404D-99B1-DD96A4912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C55CA-781B-40F4-A3EF-76E1FBE8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75DAA-7C10-49C8-AB86-78F72508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490CE-E33D-4928-8559-B07E3FD4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F8080-9A09-4209-818F-FC532187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D9134-A6BF-42F6-8B2F-1D6AFA50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ABE0E-E327-4022-BC64-96637EF8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FB878-5BDA-4F86-BE8F-84125892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BCCAB-5CD7-4FC1-9EB7-3CAD6EE4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55E0-E5A8-49A3-892B-355DC9FD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8F577-B288-4235-9345-DF806648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361C6-D35C-448A-9C35-D209BA157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3A06D-FC32-4A82-A1DD-3B9D0AE1C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F3B8A-C709-49F0-8C86-537C5935B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4328F-F3DF-4311-B47D-2754EB1F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84B27-67E5-4BA7-8E9F-6FC3EF50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89CB0-A464-4D4C-A7D2-C58162A3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9FAF7-9A82-4DE9-91E2-7A9E87A1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453AF-2073-41DE-A1E2-4332C0E1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2D508-5523-41E1-BF2C-C742AB4C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BEB6-85DD-4CD9-B197-81D1B279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B4C01-1719-438B-969D-412139D0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B5EB4-ECDB-41AA-988B-E4AF0E85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E42AF-31A6-4F70-89FA-7CEFBBB3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14536-6955-4063-ABE8-20A6A5462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783F0-F059-4894-A903-751517D7C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40FEF-4133-4C0B-B907-CFD2F00B4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DF720-0E3C-48D0-BD98-2CC193E4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69665-E9A9-4ABF-9E6D-56D798A1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34217-5DE9-4DAF-B1A5-8AAAA8B8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C8449-1E6D-4A80-95AD-C8855D18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EDFD-E159-44CF-9B5A-81F8D819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D95EE-EC65-4A77-B22B-9EC240FE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489BF-07F6-4306-A669-42ED463B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F8D9E-6E63-4576-BE80-FCC2774A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7D3D1-356E-4A27-947E-904FCC00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B8C8B-4588-41C5-A628-C6D145DA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DF67B-43A4-4C95-ADBE-24A6FBE52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10E44-9804-4C54-A930-24331C5FE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020CE-BF97-4260-AD78-03299EE6D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27F67C-3F25-46D6-861A-FEB8735C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D5E144-6722-4DA8-A253-6119E3A4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1CD4381E-5CF9-4AC2-8E69-A2D447BE2E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8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9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0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01B201AF-AFDA-42C3-A8E2-6B9EBAB90D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2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3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29B36C0D-404E-4502-8891-49186CBAF3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433085C3-E2D4-42E8-84BC-65E4A9FF20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5117676D-320B-49A9-9150-BD647B6303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48296BA3-DE66-4792-8766-B5C2C9B58E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ABAC3167-F0CE-4CE5-943F-799C3FCF1A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5C3C011D-02C5-4B49-B028-E0D92D1BEC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65609739-13D7-4F6E-A1D4-D9BD4B4262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779B87B3-CB4D-49F5-9402-D275814827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83E99BCA-A2D3-4535-8A8D-890A3AB190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Immagine 9" descr="Foto di Apertura"/>
          <p:cNvPicPr/>
          <p:nvPr/>
        </p:nvPicPr>
        <p:blipFill>
          <a:blip r:embed="rId1"/>
          <a:stretch/>
        </p:blipFill>
        <p:spPr>
          <a:xfrm>
            <a:off x="0" y="0"/>
            <a:ext cx="9142560" cy="686124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2" descr=""/>
          <p:cNvPicPr/>
          <p:nvPr/>
        </p:nvPicPr>
        <p:blipFill>
          <a:blip r:embed="rId2"/>
          <a:stretch/>
        </p:blipFill>
        <p:spPr>
          <a:xfrm>
            <a:off x="3216240" y="771480"/>
            <a:ext cx="2652840" cy="346572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000066">
                <a:alpha val="75000"/>
              </a:srgbClr>
            </a:outerShdw>
          </a:effectLst>
        </p:spPr>
      </p:pic>
      <p:sp>
        <p:nvSpPr>
          <p:cNvPr id="515" name="Rectangle 3"/>
          <p:cNvSpPr/>
          <p:nvPr/>
        </p:nvSpPr>
        <p:spPr>
          <a:xfrm>
            <a:off x="725400" y="4311720"/>
            <a:ext cx="7678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1° Repart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154080" y="6427800"/>
            <a:ext cx="24732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8440" tIns="0" bIns="0" anchor="t">
            <a:noAutofit/>
          </a:bodyPr>
          <a:p>
            <a:pPr marL="25560" algn="ctr">
              <a:spcBef>
                <a:spcPts val="37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en-US" sz="1500" spc="-1" strike="noStrike">
                <a:solidFill>
                  <a:srgbClr val="ffff00"/>
                </a:solidFill>
                <a:latin typeface="Arial"/>
              </a:rPr>
              <a:t>Roma, 30-31 ottobre 2012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0"/>
          <p:cNvSpPr/>
          <p:nvPr/>
        </p:nvSpPr>
        <p:spPr>
          <a:xfrm>
            <a:off x="-14400" y="4871880"/>
            <a:ext cx="91728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00"/>
                </a:solidFill>
                <a:latin typeface="Arial"/>
              </a:rPr>
              <a:t>Progetto di Riordino dello Strumento Militare Nazional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99"/>
                </a:solidFill>
                <a:latin typeface="Arial"/>
              </a:rPr>
              <a:t>INCONTRO CON I RAPPRESENTANTI NAZIONALI DELLE OO.SS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39"/>
          <p:cNvSpPr/>
          <p:nvPr/>
        </p:nvSpPr>
        <p:spPr>
          <a:xfrm>
            <a:off x="1285920" y="127080"/>
            <a:ext cx="63579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5960" indent="-345960" algn="ctr">
              <a:spcBef>
                <a:spcPts val="499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GGIORNAMENTO PROVVEDIMENTI  AVVIATI GIÀ PREVISTI  DAL DLGS 253/05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826920" y="1446120"/>
          <a:ext cx="7643880" cy="3206880"/>
        </p:xfrm>
        <a:graphic>
          <a:graphicData uri="http://schemas.openxmlformats.org/drawingml/2006/table">
            <a:tbl>
              <a:tblPr/>
              <a:tblGrid>
                <a:gridCol w="1641600"/>
                <a:gridCol w="1859040"/>
                <a:gridCol w="1143000"/>
                <a:gridCol w="1428840"/>
                <a:gridCol w="1571400"/>
              </a:tblGrid>
              <a:tr h="76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 DA EFFETTUAR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4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° RMV SIGONELL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POSTA RICONFIGURAZIONE MANUTENZIONE ALTRI SISTEMI D’ARM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SOSPES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SIGENZA DI RICONVERSIONE PROFESSIONA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° GM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ORLÌ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POSTA RIDIMENSIONAMENTO/RILOCAZIONE (2020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ATTIVAZIONE FASE  REIMPIEGO ALL’ATTO DELLA AUTORIZZAZIONE ALLA RILOCAZ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3"/>
          <p:cNvSpPr/>
          <p:nvPr/>
        </p:nvSpPr>
        <p:spPr>
          <a:xfrm>
            <a:off x="482760" y="239760"/>
            <a:ext cx="8292960" cy="7588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700" spc="-1" strike="noStrike">
                <a:solidFill>
                  <a:srgbClr val="ffff00"/>
                </a:solidFill>
                <a:latin typeface="Arial"/>
              </a:rPr>
              <a:t>STATUS RIORDINO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7"/>
          <p:cNvSpPr/>
          <p:nvPr/>
        </p:nvSpPr>
        <p:spPr>
          <a:xfrm>
            <a:off x="666720" y="3710160"/>
            <a:ext cx="8001000" cy="6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 marL="1619280" indent="-1619280">
              <a:spcBef>
                <a:spcPts val="1250"/>
              </a:spcBef>
              <a:tabLst>
                <a:tab algn="l" pos="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gosto 2012 : trasmissione allo SMD dell’elenco aggiornato dei provvedimenti da attuarsi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ttangolo 3"/>
          <p:cNvSpPr/>
          <p:nvPr/>
        </p:nvSpPr>
        <p:spPr>
          <a:xfrm>
            <a:off x="1143000" y="1433520"/>
            <a:ext cx="7000920" cy="10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 algn="just">
              <a:spcBef>
                <a:spcPts val="499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PROVVEDIMENTI  REVISIONE STRUMENTO MILITAR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 algn="ctr">
              <a:spcBef>
                <a:spcPts val="499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2012/2015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 algn="ctr">
              <a:spcBef>
                <a:spcPts val="349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(ELEMENTI DI ORGANIZZAZIONE CON PP.OO. PERSONALE CIVIL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39"/>
          <p:cNvSpPr/>
          <p:nvPr/>
        </p:nvSpPr>
        <p:spPr>
          <a:xfrm>
            <a:off x="785880" y="127080"/>
            <a:ext cx="74293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PROVVEDIMENTI 2012-2015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500040" y="771480"/>
          <a:ext cx="8072640" cy="3309840"/>
        </p:xfrm>
        <a:graphic>
          <a:graphicData uri="http://schemas.openxmlformats.org/drawingml/2006/table">
            <a:tbl>
              <a:tblPr/>
              <a:tblGrid>
                <a:gridCol w="1785960"/>
                <a:gridCol w="1857240"/>
                <a:gridCol w="1214640"/>
                <a:gridCol w="1500120"/>
                <a:gridCol w="1714680"/>
              </a:tblGrid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.P. BARI*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ORGANIZZAZIONE SU MEDESIMO SEDIM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SEMPLIFICAT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CORDAT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IMPIEGO SU NUOVI EDO  STESSO SEDIME (Infermerie di corpo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.P. MILANO*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. DI CORPO*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ORGANIZZAZ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. POL. POZZUOLI* (sedi di Pozzuoli, Caserta, Capodichino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ORGANIZZAZIONE SU MEDESIMI SEDIMI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6-0-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SEMPLIFICAT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CORDAT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IMPIEGO SU NUOVI EDO  STESSI SEDIMI (Infermerie di corpo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M. SANITARIA D’APPELLO – ROMA*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ORGANIZZAZ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7" name=""/>
          <p:cNvGraphicFramePr/>
          <p:nvPr/>
        </p:nvGraphicFramePr>
        <p:xfrm>
          <a:off x="500040" y="4362480"/>
          <a:ext cx="8072640" cy="1352520"/>
        </p:xfrm>
        <a:graphic>
          <a:graphicData uri="http://schemas.openxmlformats.org/drawingml/2006/table">
            <a:tbl>
              <a:tblPr/>
              <a:tblGrid>
                <a:gridCol w="1785960"/>
                <a:gridCol w="1857240"/>
                <a:gridCol w="1214640"/>
                <a:gridCol w="1500120"/>
                <a:gridCol w="1714680"/>
              </a:tblGrid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° STD VENEZ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PPRESS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ANO IN FASE ELABORAZ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° STD FINALE LIGUR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LOCAZIONE SU ALBENGA DELLA DITTA PIAGGIO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/2013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8" name="CasellaDiTesto 2"/>
          <p:cNvSpPr/>
          <p:nvPr/>
        </p:nvSpPr>
        <p:spPr>
          <a:xfrm>
            <a:off x="441360" y="4076640"/>
            <a:ext cx="38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ATTUATIVI DAL 1° NOVEMBRE 201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39"/>
          <p:cNvSpPr/>
          <p:nvPr/>
        </p:nvSpPr>
        <p:spPr>
          <a:xfrm>
            <a:off x="785880" y="127080"/>
            <a:ext cx="74293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PROVVEDIMENTI 2012-2015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500040" y="1004760"/>
          <a:ext cx="8072640" cy="3200400"/>
        </p:xfrm>
        <a:graphic>
          <a:graphicData uri="http://schemas.openxmlformats.org/drawingml/2006/table">
            <a:tbl>
              <a:tblPr/>
              <a:tblGrid>
                <a:gridCol w="1785960"/>
                <a:gridCol w="1857240"/>
                <a:gridCol w="1214640"/>
                <a:gridCol w="1500120"/>
                <a:gridCol w="1714680"/>
              </a:tblGrid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 DA EFFETTUAR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REZ. AMM. BAR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LOCAZIONE SU ROMA PAL.AM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5)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FF.DISTACC COMM.TO BAR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PPRESS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°UFF REP AMMINISTRAZ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LOCAZIONE SU CIAMPINO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°REPARTO GENIO MILAN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LOCAZIONE SU VILLAFRANC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1" name=""/>
          <p:cNvGraphicFramePr/>
          <p:nvPr/>
        </p:nvGraphicFramePr>
        <p:xfrm>
          <a:off x="500040" y="4330800"/>
          <a:ext cx="8072640" cy="1170000"/>
        </p:xfrm>
        <a:graphic>
          <a:graphicData uri="http://schemas.openxmlformats.org/drawingml/2006/table">
            <a:tbl>
              <a:tblPr/>
              <a:tblGrid>
                <a:gridCol w="1785960"/>
                <a:gridCol w="1857240"/>
                <a:gridCol w="1214640"/>
                <a:gridCol w="1500120"/>
                <a:gridCol w="1714680"/>
              </a:tblGrid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1° GrRAM POGGIO BALL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ORGANIZZAZ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4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° D.C. MONTEROTOND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LOCAZIONE SU GUIDON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39"/>
          <p:cNvSpPr/>
          <p:nvPr/>
        </p:nvSpPr>
        <p:spPr>
          <a:xfrm>
            <a:off x="785880" y="127080"/>
            <a:ext cx="74293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PROVVEDIMENTI 2012-2015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500040" y="907920"/>
          <a:ext cx="8072640" cy="3994200"/>
        </p:xfrm>
        <a:graphic>
          <a:graphicData uri="http://schemas.openxmlformats.org/drawingml/2006/table">
            <a:tbl>
              <a:tblPr/>
              <a:tblGrid>
                <a:gridCol w="1785960"/>
                <a:gridCol w="1857240"/>
                <a:gridCol w="1214640"/>
                <a:gridCol w="1500120"/>
                <a:gridCol w="1714680"/>
              </a:tblGrid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° DC GALLARAT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LOCAZIONE DELLE FUNZIONI AL 1° RMV (entro 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°STORMO PIACENZ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ORGANIZZAZIONE (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°STORMO VILLAFRANC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ITO SNA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0 (NEI SNA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EVIS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ITO SNA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0 (NEI SNA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RUPPO RIFORNIMENTI TORRICOL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ORGANIZZAZIONE SU BORGO PIAV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39"/>
          <p:cNvSpPr/>
          <p:nvPr/>
        </p:nvSpPr>
        <p:spPr>
          <a:xfrm>
            <a:off x="785880" y="127080"/>
            <a:ext cx="74293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PROVVEDIMENTI 2012-2015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541440" y="809640"/>
          <a:ext cx="8072280" cy="1463760"/>
        </p:xfrm>
        <a:graphic>
          <a:graphicData uri="http://schemas.openxmlformats.org/drawingml/2006/table">
            <a:tbl>
              <a:tblPr/>
              <a:tblGrid>
                <a:gridCol w="1785960"/>
                <a:gridCol w="1857240"/>
                <a:gridCol w="1214280"/>
                <a:gridCol w="1500480"/>
                <a:gridCol w="1714320"/>
              </a:tblGrid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. AEROP. VIGNA VAL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rvizio Amministrativo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MBIO DIPENDENZ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l Comando Aeroporto al COMAER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NTENIMENTO PRESSO ARTICOLAZ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SEMPLIFICAT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6" name=""/>
          <p:cNvGraphicFramePr/>
          <p:nvPr/>
        </p:nvGraphicFramePr>
        <p:xfrm>
          <a:off x="546120" y="2505240"/>
          <a:ext cx="8072280" cy="1098360"/>
        </p:xfrm>
        <a:graphic>
          <a:graphicData uri="http://schemas.openxmlformats.org/drawingml/2006/table">
            <a:tbl>
              <a:tblPr/>
              <a:tblGrid>
                <a:gridCol w="1785960"/>
                <a:gridCol w="1857240"/>
                <a:gridCol w="1214640"/>
                <a:gridCol w="3214440"/>
              </a:tblGrid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NOT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EPVA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STITUZ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DO SOVRAORDINATO AL COMANDO AEROPORTO CAMERI E AL 1° RMV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7" name=""/>
          <p:cNvGraphicFramePr/>
          <p:nvPr/>
        </p:nvGraphicFramePr>
        <p:xfrm>
          <a:off x="549360" y="3762360"/>
          <a:ext cx="8072280" cy="1773360"/>
        </p:xfrm>
        <a:graphic>
          <a:graphicData uri="http://schemas.openxmlformats.org/drawingml/2006/table">
            <a:tbl>
              <a:tblPr/>
              <a:tblGrid>
                <a:gridCol w="1785960"/>
                <a:gridCol w="1857240"/>
                <a:gridCol w="1214640"/>
                <a:gridCol w="1608120"/>
                <a:gridCol w="1606320"/>
              </a:tblGrid>
              <a:tr h="86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NSR MONTE CAVO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PPRESS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Q. TLC CIAMPIN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LOCAZIONE  BORGO PIAV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39"/>
          <p:cNvSpPr/>
          <p:nvPr/>
        </p:nvSpPr>
        <p:spPr>
          <a:xfrm>
            <a:off x="785880" y="127080"/>
            <a:ext cx="74293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PROVVEDIMENTI 2012-2015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500040" y="1127160"/>
          <a:ext cx="8072640" cy="4487760"/>
        </p:xfrm>
        <a:graphic>
          <a:graphicData uri="http://schemas.openxmlformats.org/drawingml/2006/table">
            <a:tbl>
              <a:tblPr/>
              <a:tblGrid>
                <a:gridCol w="2328840"/>
                <a:gridCol w="1940040"/>
                <a:gridCol w="1241280"/>
                <a:gridCol w="1243080"/>
                <a:gridCol w="1319400"/>
              </a:tblGrid>
              <a:tr h="639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 DA EFFETTUAR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. AEROP. VIGNA VAL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z. Mostre - Roma Urb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LOCAZIONE SU VIGNA DI VAL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7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7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/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STACCAMENTO AEROPORTUALE PANTELLE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PPRESS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3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Z. SMISTAMENTO AREA NORD BAGGI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PPRESS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/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STAEROP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UNI SARZAN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DIMENSIONA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°SVZ TEC. DIST. CASEL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ZIONALIZZAZ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entro 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/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°SVZ TEC. DIST. TORIN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1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CLEO DIST. CASEL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PPRESSIONE AL 1° NOVEMBRE 2012. FUNZIONI RILOCATE AL 1° RMV CAMER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/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39"/>
          <p:cNvSpPr/>
          <p:nvPr/>
        </p:nvSpPr>
        <p:spPr>
          <a:xfrm>
            <a:off x="785880" y="127080"/>
            <a:ext cx="742932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700" spc="-1" strike="noStrike">
                <a:solidFill>
                  <a:srgbClr val="ffff00"/>
                </a:solidFill>
                <a:latin typeface="Arial"/>
              </a:rPr>
              <a:t>LINEE DI INDIRIZZO PER L’ORGANICO E L’IMPIEGO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24"/>
          <p:cNvSpPr/>
          <p:nvPr/>
        </p:nvSpPr>
        <p:spPr>
          <a:xfrm>
            <a:off x="1042920" y="5713560"/>
            <a:ext cx="1603440" cy="457200"/>
          </a:xfrm>
          <a:prstGeom prst="rightArrow">
            <a:avLst>
              <a:gd name="adj1" fmla="val 50000"/>
              <a:gd name="adj2" fmla="val 8767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24"/>
          <p:cNvSpPr/>
          <p:nvPr/>
        </p:nvSpPr>
        <p:spPr>
          <a:xfrm rot="5400000">
            <a:off x="4697640" y="3373920"/>
            <a:ext cx="442800" cy="552600"/>
          </a:xfrm>
          <a:prstGeom prst="rightArrow">
            <a:avLst>
              <a:gd name="adj1" fmla="val 50000"/>
              <a:gd name="adj2" fmla="val 59296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 vert="eaVert" rot="10800000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1632600" y="4221000"/>
            <a:ext cx="6606000" cy="441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2dc"/>
                </a:solidFill>
                <a:latin typeface="Arial"/>
              </a:rPr>
              <a:t>IPOTESI NUOVA QUOTA AM = DA DEFINI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9"/>
          <p:cNvSpPr/>
          <p:nvPr/>
        </p:nvSpPr>
        <p:spPr>
          <a:xfrm>
            <a:off x="1979640" y="1700280"/>
            <a:ext cx="5977080" cy="151092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a2dc"/>
                </a:solidFill>
                <a:latin typeface="Arial"/>
              </a:rPr>
              <a:t>Quota dotazioni organiche ipotizzata AM </a:t>
            </a: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4.485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(prima della norma “spending review”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2676960" y="5734080"/>
            <a:ext cx="4990320" cy="441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F.E.O.  A.M. al 29 ott 2012 = 4.42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39"/>
          <p:cNvSpPr/>
          <p:nvPr/>
        </p:nvSpPr>
        <p:spPr>
          <a:xfrm>
            <a:off x="785880" y="127080"/>
            <a:ext cx="742932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700" spc="-1" strike="noStrike">
                <a:solidFill>
                  <a:srgbClr val="ffff00"/>
                </a:solidFill>
                <a:latin typeface="Arial"/>
              </a:rPr>
              <a:t>LINEE DI INDIRIZZO PER L’ORGANICO E L’IMPIEGO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24"/>
          <p:cNvSpPr/>
          <p:nvPr/>
        </p:nvSpPr>
        <p:spPr>
          <a:xfrm>
            <a:off x="642960" y="2013120"/>
            <a:ext cx="1123920" cy="417240"/>
          </a:xfrm>
          <a:prstGeom prst="rightArrow">
            <a:avLst>
              <a:gd name="adj1" fmla="val 50000"/>
              <a:gd name="adj2" fmla="val 67343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2508480" y="1785960"/>
            <a:ext cx="5671800" cy="8650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2dc"/>
                </a:solidFill>
                <a:latin typeface="Arial"/>
              </a:rPr>
              <a:t>Avvio studi definizione/ottimizzazi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2dc"/>
                </a:solidFill>
                <a:latin typeface="Arial"/>
              </a:rPr>
              <a:t>dei moduli stand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24"/>
          <p:cNvSpPr/>
          <p:nvPr/>
        </p:nvSpPr>
        <p:spPr>
          <a:xfrm>
            <a:off x="642960" y="3070080"/>
            <a:ext cx="1123920" cy="417600"/>
          </a:xfrm>
          <a:prstGeom prst="rightArrow">
            <a:avLst>
              <a:gd name="adj1" fmla="val 50000"/>
              <a:gd name="adj2" fmla="val 6728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2195640" y="2924280"/>
            <a:ext cx="4805280" cy="8650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2dc"/>
                </a:solidFill>
                <a:latin typeface="Arial"/>
              </a:rPr>
              <a:t>Revisione TOO già avviat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2dc"/>
                </a:solidFill>
                <a:latin typeface="Arial"/>
              </a:rPr>
              <a:t>Tenendo presen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24"/>
          <p:cNvSpPr/>
          <p:nvPr/>
        </p:nvSpPr>
        <p:spPr>
          <a:xfrm rot="5400000">
            <a:off x="2465640" y="4021560"/>
            <a:ext cx="442800" cy="552600"/>
          </a:xfrm>
          <a:prstGeom prst="rightArrow">
            <a:avLst>
              <a:gd name="adj1" fmla="val 50000"/>
              <a:gd name="adj2" fmla="val 5912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 vert="eaVert" rot="10800000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1116000" y="4869000"/>
            <a:ext cx="2608200" cy="865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pp.oo. vacan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e non funzional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24"/>
          <p:cNvSpPr/>
          <p:nvPr/>
        </p:nvSpPr>
        <p:spPr>
          <a:xfrm rot="5400000">
            <a:off x="6571440" y="3950640"/>
            <a:ext cx="442800" cy="552240"/>
          </a:xfrm>
          <a:prstGeom prst="rightArrow">
            <a:avLst>
              <a:gd name="adj1" fmla="val 50000"/>
              <a:gd name="adj2" fmla="val 5912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 vert="eaVert" rot="10800000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5512680" y="4653000"/>
            <a:ext cx="2620800" cy="12888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pp.oo. non funz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nel disegn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ordinativo futur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39"/>
          <p:cNvSpPr/>
          <p:nvPr/>
        </p:nvSpPr>
        <p:spPr>
          <a:xfrm>
            <a:off x="785880" y="127080"/>
            <a:ext cx="742932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700" spc="-1" strike="noStrike">
                <a:solidFill>
                  <a:srgbClr val="ffff00"/>
                </a:solidFill>
                <a:latin typeface="Arial"/>
              </a:rPr>
              <a:t>LINEE DI INDIRIZZO PER L’ORGANICO E L’IMPIEGO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24"/>
          <p:cNvSpPr/>
          <p:nvPr/>
        </p:nvSpPr>
        <p:spPr>
          <a:xfrm>
            <a:off x="642960" y="3070080"/>
            <a:ext cx="1123920" cy="417600"/>
          </a:xfrm>
          <a:prstGeom prst="rightArrow">
            <a:avLst>
              <a:gd name="adj1" fmla="val 50000"/>
              <a:gd name="adj2" fmla="val 6728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5"/>
          <p:cNvSpPr/>
          <p:nvPr/>
        </p:nvSpPr>
        <p:spPr>
          <a:xfrm>
            <a:off x="2865600" y="2637000"/>
            <a:ext cx="4227480" cy="12888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Circolare ordinativ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aggiornamento TOO En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al 30 giugno 201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482760" y="239760"/>
            <a:ext cx="8292960" cy="7588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SCOPO DELLA RIUNIONE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ttangolo 3"/>
          <p:cNvSpPr/>
          <p:nvPr/>
        </p:nvSpPr>
        <p:spPr>
          <a:xfrm>
            <a:off x="826920" y="1628640"/>
            <a:ext cx="7705800" cy="31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650"/>
              </a:spcBef>
              <a:spcAft>
                <a:spcPts val="150"/>
              </a:spcAft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Informare le OO.SS. circa il progetto di riordino dell’AM, in senso riduttivo, indicando i possibili provvedimenti da adottare nel periodo 2012-2015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650"/>
              </a:spcBef>
              <a:spcAft>
                <a:spcPts val="150"/>
              </a:spcAft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Illustrare e aggiornare sulle linee di indirizzo per l’impiego del personale civile anche alla luce delle nuove dotazioni organiche in via di defini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39"/>
          <p:cNvSpPr/>
          <p:nvPr/>
        </p:nvSpPr>
        <p:spPr>
          <a:xfrm>
            <a:off x="785880" y="127080"/>
            <a:ext cx="742932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700" spc="-1" strike="noStrike">
                <a:solidFill>
                  <a:srgbClr val="ffff00"/>
                </a:solidFill>
                <a:latin typeface="Arial"/>
              </a:rPr>
              <a:t>LINEE DI INDIRIZZO PER L’ORGANICO E L’IMPIEGO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24"/>
          <p:cNvSpPr/>
          <p:nvPr/>
        </p:nvSpPr>
        <p:spPr>
          <a:xfrm>
            <a:off x="571680" y="2644920"/>
            <a:ext cx="1123920" cy="417240"/>
          </a:xfrm>
          <a:prstGeom prst="rightArrow">
            <a:avLst>
              <a:gd name="adj1" fmla="val 50000"/>
              <a:gd name="adj2" fmla="val 67343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2425320" y="2631960"/>
            <a:ext cx="5723640" cy="441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Mantenimento/riduzione attuale F.E.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24"/>
          <p:cNvSpPr/>
          <p:nvPr/>
        </p:nvSpPr>
        <p:spPr>
          <a:xfrm>
            <a:off x="571680" y="3701880"/>
            <a:ext cx="1123920" cy="417600"/>
          </a:xfrm>
          <a:prstGeom prst="rightArrow">
            <a:avLst>
              <a:gd name="adj1" fmla="val 50000"/>
              <a:gd name="adj2" fmla="val 6728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2453040" y="3703680"/>
            <a:ext cx="5452200" cy="8650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Privilegiare professionalità pregi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(area tec.-manutentiva, etc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Immagine 9" descr="Foto di Apertura"/>
          <p:cNvPicPr/>
          <p:nvPr/>
        </p:nvPicPr>
        <p:blipFill>
          <a:blip r:embed="rId1"/>
          <a:stretch/>
        </p:blipFill>
        <p:spPr>
          <a:xfrm>
            <a:off x="0" y="0"/>
            <a:ext cx="9142560" cy="68612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2" descr=""/>
          <p:cNvPicPr/>
          <p:nvPr/>
        </p:nvPicPr>
        <p:blipFill>
          <a:blip r:embed="rId2"/>
          <a:stretch/>
        </p:blipFill>
        <p:spPr>
          <a:xfrm>
            <a:off x="3216240" y="771480"/>
            <a:ext cx="2652840" cy="346572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000066">
                <a:alpha val="75000"/>
              </a:srgbClr>
            </a:outerShdw>
          </a:effectLst>
        </p:spPr>
      </p:pic>
      <p:pic>
        <p:nvPicPr>
          <p:cNvPr id="585" name="Rettangolo 6" descr=""/>
          <p:cNvPicPr/>
          <p:nvPr/>
        </p:nvPicPr>
        <p:blipFill>
          <a:blip r:embed="rId3"/>
          <a:stretch/>
        </p:blipFill>
        <p:spPr>
          <a:xfrm>
            <a:off x="743040" y="4376880"/>
            <a:ext cx="7657920" cy="1596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482760" y="239760"/>
            <a:ext cx="8292960" cy="7588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ttangolo 3"/>
          <p:cNvSpPr/>
          <p:nvPr/>
        </p:nvSpPr>
        <p:spPr>
          <a:xfrm>
            <a:off x="611280" y="1285920"/>
            <a:ext cx="8164440" cy="39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just">
              <a:lnSpc>
                <a:spcPct val="135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Introduzion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35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Status Riordin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35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Provvedimenti da attu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35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Linee di indirizzo sull’ordinamento e impiego del personale civil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35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Conclusio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3"/>
          <p:cNvSpPr/>
          <p:nvPr/>
        </p:nvSpPr>
        <p:spPr>
          <a:xfrm>
            <a:off x="482760" y="239760"/>
            <a:ext cx="8292960" cy="7588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3700" spc="-1" strike="noStrike">
                <a:solidFill>
                  <a:srgbClr val="ffff00"/>
                </a:solidFill>
                <a:latin typeface="Arial"/>
              </a:rPr>
              <a:t>INTRODUZIONE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5"/>
          <p:cNvSpPr/>
          <p:nvPr/>
        </p:nvSpPr>
        <p:spPr>
          <a:xfrm>
            <a:off x="2000160" y="1643040"/>
            <a:ext cx="5214960" cy="441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2dc"/>
                </a:solidFill>
                <a:latin typeface="Arial"/>
              </a:rPr>
              <a:t>RIORGANIZZAZIONE DIFES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24"/>
          <p:cNvSpPr/>
          <p:nvPr/>
        </p:nvSpPr>
        <p:spPr>
          <a:xfrm rot="17529600">
            <a:off x="2819160" y="2487240"/>
            <a:ext cx="627120" cy="550800"/>
          </a:xfrm>
          <a:prstGeom prst="rightArrow">
            <a:avLst>
              <a:gd name="adj1" fmla="val 50000"/>
              <a:gd name="adj2" fmla="val 6731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5"/>
          <p:cNvSpPr/>
          <p:nvPr/>
        </p:nvSpPr>
        <p:spPr>
          <a:xfrm>
            <a:off x="642960" y="3514680"/>
            <a:ext cx="2608200" cy="11361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Provvedimenti già inseriti nel  D.Lgs. 253/’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24"/>
          <p:cNvSpPr/>
          <p:nvPr/>
        </p:nvSpPr>
        <p:spPr>
          <a:xfrm rot="14589000">
            <a:off x="5387760" y="2406240"/>
            <a:ext cx="627120" cy="551160"/>
          </a:xfrm>
          <a:prstGeom prst="rightArrow">
            <a:avLst>
              <a:gd name="adj1" fmla="val 50000"/>
              <a:gd name="adj2" fmla="val 6726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5"/>
          <p:cNvSpPr/>
          <p:nvPr/>
        </p:nvSpPr>
        <p:spPr>
          <a:xfrm>
            <a:off x="5286240" y="3300480"/>
            <a:ext cx="3286440" cy="205704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D.D.L. recan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“</a:t>
            </a: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Delega al Governo per la revisione dell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strumento militare nazionale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3"/>
          <p:cNvSpPr/>
          <p:nvPr/>
        </p:nvSpPr>
        <p:spPr>
          <a:xfrm>
            <a:off x="428760" y="214200"/>
            <a:ext cx="8291520" cy="7588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700" spc="-1" strike="noStrike">
                <a:solidFill>
                  <a:srgbClr val="ffff00"/>
                </a:solidFill>
                <a:latin typeface="Arial"/>
              </a:rPr>
              <a:t>STATUS RIORDINO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ttangolo 6"/>
          <p:cNvSpPr/>
          <p:nvPr/>
        </p:nvSpPr>
        <p:spPr>
          <a:xfrm>
            <a:off x="357120" y="142884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 algn="ctr">
              <a:spcBef>
                <a:spcPts val="601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AGGIORNAMENTO PROVVEDIMENTI  AVVIATI DAL D.LGS 253/05  e </a:t>
            </a:r>
            <a:r>
              <a:rPr b="1" i="1" lang="it-IT" sz="2400" spc="-1" strike="noStrike">
                <a:solidFill>
                  <a:srgbClr val="00cc00"/>
                </a:solidFill>
                <a:latin typeface="Arial"/>
              </a:rPr>
              <a:t>ATTUA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ttangolo 7"/>
          <p:cNvSpPr/>
          <p:nvPr/>
        </p:nvSpPr>
        <p:spPr>
          <a:xfrm>
            <a:off x="1214280" y="2527200"/>
            <a:ext cx="68580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32° GrRAM Otran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34° GrRAM Siracus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3"/>
          <p:cNvSpPr/>
          <p:nvPr/>
        </p:nvSpPr>
        <p:spPr>
          <a:xfrm>
            <a:off x="428760" y="214200"/>
            <a:ext cx="8291520" cy="7588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700" spc="-1" strike="noStrike">
                <a:solidFill>
                  <a:srgbClr val="ffff00"/>
                </a:solidFill>
                <a:latin typeface="Arial"/>
              </a:rPr>
              <a:t>STATUS RIORDINO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ttangolo 6"/>
          <p:cNvSpPr/>
          <p:nvPr/>
        </p:nvSpPr>
        <p:spPr>
          <a:xfrm>
            <a:off x="357120" y="1428840"/>
            <a:ext cx="85010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 algn="ctr">
              <a:spcBef>
                <a:spcPts val="499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AGGIORNAMENTO PROVVEDIMENTI  AVVIATI DAL D.LGS. 253/05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 algn="ctr">
              <a:spcBef>
                <a:spcPts val="499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(già partecipati alle OO.SS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ttangolo 7"/>
          <p:cNvSpPr/>
          <p:nvPr/>
        </p:nvSpPr>
        <p:spPr>
          <a:xfrm>
            <a:off x="1214280" y="2786040"/>
            <a:ext cx="685800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Distaccamento Aeroportuale Elma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Distaccamento Aeroportuale Brindisi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11° RMV Sigonella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2° GMA Forlì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14° Deposito Centrale Moden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39"/>
          <p:cNvSpPr/>
          <p:nvPr/>
        </p:nvSpPr>
        <p:spPr>
          <a:xfrm>
            <a:off x="1285920" y="127080"/>
            <a:ext cx="63579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5960" indent="-345960" algn="ctr">
              <a:spcBef>
                <a:spcPts val="499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GGIORNAMENTO PROVVEDIMENTI  AVVIATI DAL DLGS 253/05  E ATTUAT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714240" y="2381400"/>
          <a:ext cx="7858440" cy="1984320"/>
        </p:xfrm>
        <a:graphic>
          <a:graphicData uri="http://schemas.openxmlformats.org/drawingml/2006/table">
            <a:tbl>
              <a:tblPr/>
              <a:tblGrid>
                <a:gridCol w="1627200"/>
                <a:gridCol w="1841760"/>
                <a:gridCol w="1274760"/>
                <a:gridCol w="1608120"/>
                <a:gridCol w="1506600"/>
              </a:tblGrid>
              <a:tr h="80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  EFFETTUAT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° GrRAM Otra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ORGANIZZAZIONE IN DISTACCAMENTO AM E IN Sq.R.R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SEMPLIFICATA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già attuata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ANO DI REIMPIEGO OPERATIVO DAL 01/07/2012 nei nuovi EdO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4° GrRAM Siracus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39"/>
          <p:cNvSpPr/>
          <p:nvPr/>
        </p:nvSpPr>
        <p:spPr>
          <a:xfrm>
            <a:off x="1285920" y="127080"/>
            <a:ext cx="63579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5960" indent="-345960" algn="ctr">
              <a:spcBef>
                <a:spcPts val="499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GGIORNAMENTO PROVVEDIMENTI  AVVIATI PREVISTI  DAL DLGS 253/05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755640" y="1714680"/>
          <a:ext cx="7858080" cy="2579400"/>
        </p:xfrm>
        <a:graphic>
          <a:graphicData uri="http://schemas.openxmlformats.org/drawingml/2006/table">
            <a:tbl>
              <a:tblPr/>
              <a:tblGrid>
                <a:gridCol w="1671480"/>
                <a:gridCol w="1785960"/>
                <a:gridCol w="1285920"/>
                <a:gridCol w="1571760"/>
                <a:gridCol w="1542960"/>
              </a:tblGrid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 DA EFFETTUAR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° GRUPPO RIFORN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STEL D’ANNONE (AT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PPRESS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3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1 (in aspettativa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TRATTAZIONE EFFETTUATA NEL  2008.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LPERSONALE VIENE TRASFERITO ALL’ATTO DELLA CHIUSURA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°GRUPPO  RIFORNIMENTI VIZZINI (S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39"/>
          <p:cNvSpPr/>
          <p:nvPr/>
        </p:nvSpPr>
        <p:spPr>
          <a:xfrm>
            <a:off x="1285920" y="127080"/>
            <a:ext cx="63579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5960" indent="-345960" algn="ctr">
              <a:spcBef>
                <a:spcPts val="499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GGIORNAMENTO PROVVEDIMENTI  AVVIATI PREVISTI  DAL DLGS 253/05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684360" y="981000"/>
          <a:ext cx="8137440" cy="4253040"/>
        </p:xfrm>
        <a:graphic>
          <a:graphicData uri="http://schemas.openxmlformats.org/drawingml/2006/table">
            <a:tbl>
              <a:tblPr/>
              <a:tblGrid>
                <a:gridCol w="1714320"/>
                <a:gridCol w="1943280"/>
                <a:gridCol w="1344600"/>
                <a:gridCol w="1622160"/>
                <a:gridCol w="1513080"/>
              </a:tblGrid>
              <a:tr h="76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4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° D.C. MODEN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PPRESSIONE  CON RILASCIO DEL SEDIM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ANO REIMPIEGO APPROVAZIONE POLITIC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STACCAMENTO AEROPORTUALE ELMA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PPRESSIONE GRADUALE CON RILASCIO DEL SEDIM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3/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CERTAZIONE PREVISTA NOVEMBRE 201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2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STACCAMENTO AEROPORTUALE BRINDISI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DIMENSIONAMENTO DELL’ATTUALE EdO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TILE IMPIEGO NELL’EDO RIDIMENSIONA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POSTA PROCEDURA SEMPLIFICAT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9:13:27Z</dcterms:created>
  <dc:creator>smelzoe</dc:creator>
  <dc:description/>
  <dc:language>en-US</dc:language>
  <cp:lastModifiedBy>genovesea</cp:lastModifiedBy>
  <dcterms:modified xsi:type="dcterms:W3CDTF">2012-11-22T11:55:42Z</dcterms:modified>
  <cp:revision>796</cp:revision>
  <dc:subject/>
  <dc:title>Diapositiva 1</dc:title>
</cp:coreProperties>
</file>